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5BC-F217-4F23-984F-7DFAEE83C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347-85E3-4D36-B1F5-163FAC4D3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6B74-64ED-47A3-98FD-2659592F0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7B40-54C8-4C8D-AF5E-817AAFC7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C239-CBC0-4A6F-BB17-917156A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CA2A6-981F-4446-87B9-4AD6CF2D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29C4B-1A17-4107-9B19-4993BF6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71193-39EF-4930-95DA-6D55450D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5BBC8-7169-4EB1-9435-047A3E61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2C395-C45D-42C5-B52E-47B62752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25DC9-40E0-443F-A7DF-DA6BCBD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52DE5-5D7E-4D2C-9B21-DDF4B966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1C85B-C979-4978-A052-D167B3B2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6F5F0-A08B-41E5-8B57-A2D9E78B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C1F14-17DF-43B6-83E2-4261A0FF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AA51-2BC9-4A99-B11A-38008280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EA49E-3FAB-4973-BD78-A971A2EB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CF577-05EF-41E1-933D-7AC80F77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1CE6D-0616-4EF8-93A8-FD9A1407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295F5-2F96-4CB6-819A-165A324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F64FA-A7D0-4F1C-AE3B-DE03ADD5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CE30A-823C-4C2A-8199-1BD9DD9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5ED51-5CFD-47BF-A412-AB834E1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FA522-001A-4591-9997-536749AB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CF070-B05A-479F-A14D-6CD88A67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5E066-8251-470E-A407-AFE79BE6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A62E-A9F3-4F5D-95A7-37709B28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458B3-C4C4-45F3-AE7B-40AFD5AD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491E8D-A3B7-46A9-91AC-26E76A99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690DFD-333E-40DB-A6E0-1EBFD5B7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309EB8-14F6-4D0F-90E8-C410133A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F18AE6-F6D6-474C-B453-6AA3B12F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57BE79-7138-475A-8288-F420A041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2DD225-68A0-4A76-A34C-F7B105E9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B9B59B-F638-46F9-BE6A-888EB3AA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D719CC-3E12-4AFE-B747-C25961DA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3579B-919A-4397-980B-CADA6FA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F31E-77C1-4593-BB1F-12311A7E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29553C-8A57-4FB5-9625-7D620E10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EFC422-5D06-489F-8E21-3480A995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B122B5-BFEF-4AAF-87FE-6068A84C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91856-6715-407B-870D-E5DB4884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DCCDC-0FC3-40BD-81E3-3B1B6E2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9FE0E-6866-4C91-9482-8F7E60B3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CAC9C-BF3E-43BB-8353-C793D358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1B444-8BEE-4CBD-B72A-E690D3B0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66960-0F18-40EF-95C0-060B76A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D827C-755E-4037-865F-8480517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001-670C-4135-925F-E435086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A5665-175D-43CB-89EA-DB923D8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596A4-4A7A-4191-8514-66C1F4B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EAF4C-8B67-4CEE-907F-ECAA0FDE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3DF75-D1E2-423B-BC88-652360AE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B8DDC-DC59-4D3B-8191-9A720C7B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3F069D-B22D-4D83-857F-A508B27D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22DF6D-9695-4890-9261-F5EE426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65D910-459C-4817-9DDC-A6FDFFB0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F20733-5F80-4EE4-BB0A-05C60DE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AE5CDE-0CF1-4DFE-8DB9-062DCB16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4F16-213B-4836-8694-3F22446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B59AD7-6D79-4D76-9F85-08BDE1A2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56B411-464A-4B8B-A02C-402A88DA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95663D-5B41-4CED-8F55-1867A87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08F41F-F3C5-43D3-8407-85F8FDB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0ADEFD-9F43-4883-866B-8B939916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301E72-0F1A-42B5-9B26-632AE89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8754D1-F3CE-4F8A-AB37-2282F459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40392E-2287-4555-BE03-7AD9B177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70F195-46F6-40F9-AB55-C1C020B9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231DF4-B32C-467F-8378-036D084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1007-0A59-4D94-A14D-E07D0E03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2E24AD-20D5-43E8-9B2A-717D2596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B84E87-A73D-4A1F-9F1C-CB409352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B07DC5-1408-4BD9-B3B1-404D85EC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D744D8-F964-4188-A6DC-EE91BC9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036A0A-4D1E-43BE-9167-46BBC3E9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669FB3-90AA-4E99-915A-0A8F75A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14DFA1-E39C-4626-A62E-A4C3B77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FC7255-B489-4139-B606-324BD71A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8BBBDD-72A6-48A0-BD28-8C3C0D48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FB056B-CEA0-43FE-AF6A-929375C6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A3A9-600A-40B3-A219-CDC37432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F26565-59A4-489C-A892-B29F87B9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DB2AB3-49E2-4669-A7C4-34DEE0C1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6EDA6B-8B2D-46DB-BE0D-207D7DA8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10A993-8812-46A4-A314-806A2E47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18E228-7527-484C-BDFE-D456FDF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6E8CBD-FAA8-48A2-9AE8-FB0BDD9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48A17E-D88B-487F-AB3F-E2D839C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5E85D4-016F-41B5-9297-B4C11E1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734C52-E733-49B1-8CAC-71C459D8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66B87F-91F1-4FE6-A509-7A129ACF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E93-5C77-4BBF-8A05-4AC2B7F4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B0D581-6D5E-447A-953D-EC160E91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9F5A54-C3D8-4CBA-9BFD-7DCCE24B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8E1DFD-817D-4518-99FE-32A515A0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A2E6E6-2FCC-44FE-8911-243BF682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4BFC41-D5DF-4C0D-BC85-E48E757D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D01D03-1688-43A2-A0C0-CA54FB3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0743C5-A4C1-4532-9311-64CC6EA3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D97F45-3309-4B22-B37D-A7CB571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E33F05-B143-4B2E-B5FD-5108DEA8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CB6E5D-BC11-45A8-9D93-B4780A1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702C-17E1-474A-9A13-81B802F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AF7660-E3BB-4404-B9D8-7AB48550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861FC0-6DBE-4D10-BB1B-0229D020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424D3E-59F5-4A58-BCEC-3FF7DB08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22A883-CD69-4D79-A22F-C4AB49F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B39F7F-E5C3-49FE-9132-D303FF33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6859E3-5669-4F5C-A6F5-218AB14B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F8191A-EB8D-4C73-9262-49B7DCC4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0B3A30-ED43-4BE0-9E47-3D6AD7B4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34DA03-C0E5-43F0-8D01-8D7ACA8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C2330B-475D-40A3-9BC0-259D877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FB6E-7640-4263-8AF4-B2909808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B788-1EED-45B2-99D2-0DED4E6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0442CA-15BD-4ED2-8D42-90B34D1D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4B6C6D-BCB2-45E6-83C8-0A47557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5CEAE6-C6A0-4A5F-B750-A8D61CE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9894C4-57A5-4586-9644-B9194CF5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267FAB-91B4-407A-9E4B-93393D5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4FF62C-49DB-4751-8ADD-96EC6A1E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6652E3-FC33-44CC-A627-0D0840C6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44CE453-9613-4E4F-A143-3EA11C0C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B5CAC9-D540-4E01-B983-70B124B5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069A58-8483-4272-B2D8-319517C9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F988-992D-4D48-9771-E79335A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98E7A0-2508-4DB0-87EF-BA8BF667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F61EF28-65ED-4BEF-8EBF-00A0578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D3647D-DC0A-4C77-8E58-A9AB247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C0CADC-0EE0-4E0F-99B1-A4D1DFC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B5F7BD-4CBB-4C55-A48F-D0847F3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91A688-EC85-4381-854E-9B7063DD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379F1A-263C-4817-A623-913B1C0A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22EB09-E924-4BF0-BF54-9F6B7DBA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A9DEA2-7C6E-4293-9BCB-3AE10E01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3BDA41-5BB0-4AD6-B75C-7F880218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F923-1F04-4D3F-A191-5850A39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AEB628-820E-4E60-A4A0-393DE72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2D024C-1465-4FEA-906D-5FE0E457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6BFFD6-F241-4BFC-A570-30B9DAC6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9BD7C2-38F1-4FB0-AC56-237912B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7E588C-0F85-4FBF-9762-95FF508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0B883D-1A88-4C33-A38C-8505B30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2ED592-7085-4C8C-A567-73481C8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EB917D-5B33-44C0-99A5-D6407A08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7E95FA-60E5-464B-B669-FF4B2898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F3AAB4-CE24-4E78-84C8-60B5B85C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7EFF-514D-426A-97F2-8304E05F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B942D9-2D57-4A41-A6C1-92A20D5B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9DE13C-1A67-4A0E-AF31-6DF5453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45A1960-705E-4DCB-BEF2-B961473D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42883B-09D9-41C5-8F4C-5F6DBEB3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D5433A-4BF6-4CA4-B4F3-8F377FE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EF2EC4-EC4E-46C6-9E9B-AA8AAC5E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879743-B370-4698-9403-900E3B86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67187E-F959-434E-8510-01B4D71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90E08BF-5B10-4721-A3F2-825B59B6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709B1D-6127-4B89-83EB-5099E70C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42B2-001F-4D1A-918B-F206A4C1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FB0427-E758-460B-AD02-F4184CB4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094E84-9DA8-4C02-A4E8-78BFABA5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E22739-9B86-4B4E-8B09-3920F18D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41076A-428F-45C5-BD73-ED49183A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E1D78D-B37F-4DE2-AAB7-03493D9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BE2787-2751-4265-8D7D-40FB3BED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7042E7F-B1D3-484A-BC3C-792BECA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2CF9E4-20B7-4363-8136-798640D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1AE873-0F4B-469F-85AA-0D5F80DC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8029C5-D62F-4BF3-9C54-31B0EF6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7DAF1F-A27E-4B07-9BD1-53167967E3A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2947F5-A4EA-4C18-B03C-29940C83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C821297-19A8-4C58-AB7F-5F44EC6D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0EFF20-CD69-42A6-BADA-0E64093F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8AC3566-E138-4171-A9D3-791A83F3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530C9D2-77F3-4C0E-ADC7-D26DECB6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95D031-89E4-4637-B429-4853C539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46729B-BC90-49C5-AABF-3D5D79A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834D87-449D-466A-9C5A-7869994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2BCBEC-D731-4B86-AC63-D253892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19E355-72F3-47FD-8546-E5B3142A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465D6-2C0E-475D-BED2-06F7FBFC5B5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D82409-186A-4A8E-8C9B-E8E9AC5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A520D8D-727F-4BC4-B18C-D14DB7B1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3D9B49-91DC-4A2D-B1DB-1A3D6AE4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7F41B0-0BF8-45E6-B2F2-CD4502BB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50CAAD-78C0-49D4-8F0F-BB40583E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3FA5AE-1BC9-4C9B-8B0B-CBF1A9F3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173073-913B-431F-8E8B-AA30AD5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962FE5-7835-4BD0-BDF2-A9666250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C150D4-09D0-4BB4-BE74-76D30CA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481522-5061-474F-A941-2C132DC2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FB130-3527-4CCA-B8C4-2ECA08223AD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F0E742-6E4A-41A5-88FE-CDF22560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DBA7B7-04CE-454B-9687-7DBC6C10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9297189-5F8C-4EE8-B8FF-53101E7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65010B-2289-4175-B460-3E5FF17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D74D83-AC82-47E8-9890-61426DBD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54200FD-1D4F-4D0D-89DF-F041EAAF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7F33D1B-CD85-407D-901B-33F62345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906A1B-A0DD-4598-89EA-794ABC24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4FC3F1-1466-4D70-916C-37FBE48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002C7B-8874-4F7D-AB8E-23F4735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220C0-060E-4E26-9E73-CEE4DE4E922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9502AB-2CF2-46F2-B9C6-01D4CA1F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3E531A-0C62-4ABD-8389-EB7677F8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AD30B1C-CE12-4BC2-BD9E-FCCE81A3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62E368-7A79-4276-9B68-932033C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EDC492A-30E2-401C-AFB4-3F6CBEE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B78DFC3-73EC-44EE-9194-FDD50F8C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61E7B45-CD0C-4C96-AECE-7395B9B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BC957A7-007E-4687-8368-01CC10E8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E4C9A3-78F0-4E2E-B546-ADB5C404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E14FBD-EAA8-412A-B908-BB76D4A936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315A6-D14B-4416-A370-7EF2345FB8C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23C705-7B96-4FE6-8AA3-2AE6AE40935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4E44BD-ED74-423E-94B9-5AB3F45A40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E74B37-88B4-474B-873C-E0061C562D7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116225-90CD-42F4-A975-2DD91E26E39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1AAC7C-FBC1-465C-BDD2-0E9D8B4C6A2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8245A1-7F25-4EF6-A47C-9933CBA5F65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13B516-7426-485A-9CF8-1FBCECF34C4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21D91C-6B4F-4343-90B4-69ED807EBC1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E5BB4F-D88D-406A-A9AE-39D47BB48B1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198C1D-2999-4588-A670-E2C1EE396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134E-D8A6-42BC-9F4A-D6446115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1F5C9-648E-40F5-B93E-F4956098C5D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B7F99-59BC-45F6-9358-F87FE1D631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6F116-C743-43ED-8677-812FBDCE11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5D4E5-90CA-4E04-A2F3-A466D74DFF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22ED6-D030-4D1C-B86C-31EEE9AAD4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E49A6-D874-4A92-9F89-2D17E0A2E5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D1C18-772F-4383-908D-C33AAEBCF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B7EB6-4BEA-4A8F-B0F9-A11C8F8D69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BE390-C429-4900-AFD2-D8812565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4EC6E-3F9E-4905-87DD-33B92352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0FA2B-83B9-4ED5-BF27-F1A5EBB7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842D-3FE6-4ADD-8664-B49A21F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43911-CF32-4179-BDCB-1589BAC2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B6FAA-0941-4B31-9B60-00E6CFA6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CB7BD-3CA2-4418-9F2A-3063875F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ED79E-3A43-430D-A597-57152DD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15206-043F-433D-805D-CC8A382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757E2-AC39-49BE-ADFD-C52446B7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F146E-B30A-4F3D-B5F8-5BA5F723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A5E35-6C32-45C7-82EA-9FFE5583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E9B86-0CE7-4FF9-8AD2-5861F07B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1BED8-93D7-4E5A-BE85-10636EAC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437A-C232-4AFC-AEE4-A7DD4C34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993239-9774-4558-8989-35545AE8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93E8C-D7BE-41A0-8FDF-7BD2043E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789C45-C66F-484B-B4F4-4C9152DE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17CFFE-8D9D-4E67-984F-E47FB5D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1FAF5-9C42-438A-BA1B-A182233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7AF3E-0378-430E-BFDD-E3AB5140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1C5A7-DAB6-4D99-B067-AEB90C4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06FCFC-5236-45B4-ADAF-5820402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16D1E3-BC7D-44B6-A93E-53C74120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590F04-58BC-4139-877A-CC2FA0E2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5DAE-DA0E-4C45-8093-C3DACD52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B1D05-01A3-4F6B-863C-0BFC563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0A64E6-8C55-4828-8656-6B4CD1A2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EF77B4-4C07-407B-B40B-07F5CEDD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C14F1-6DDF-4626-81B3-80D618B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2C53D-0AAD-44D9-9F8C-62D3712E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34231F-09D2-43C7-9C9C-AD61BB94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48CAB2-E69E-4524-9938-9976DEFE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BEDBB-7CE4-43D0-85A3-32027C0D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E2261-FF54-4495-969C-405CCAC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855486-9689-4DF5-9EB9-0E7B8DF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5423-0AFD-4018-8744-0A495EC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B8650F-EB12-4AC1-947E-EFC7536D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38481-103E-405E-A954-8C70AEF0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72A9F-0F97-4118-83DF-9D6EFD01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8DD785-8427-4ACC-89DF-3141034D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27350-8310-45AB-96C5-54FA8F60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8E568-83BF-4F77-8BFF-BDFB652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417BFA-542E-441A-8BB3-4AE1A65E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ABBA1C-91C9-4E89-B1D0-2C8DE35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29D09D-9273-4929-BBA7-705F8E72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3F9C0C-1B5A-477F-B058-A1FDABD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E617-A40F-4A33-9DAC-7DA5F41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083110-11EB-4099-B2BE-0B11D804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164C2-25C0-46B4-BF52-232E796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6BE8A5-7D03-4EC8-AB0E-E660BE1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A00B6E-4A4B-4007-B301-44D89C26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1F460B-67A8-4CB3-A0AF-087ADC16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D6C80C-1F5C-473B-8491-5BFFB34B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510F6-DA28-4690-BD1B-93DE31F7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86189-79E9-459F-929F-E6413DC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5EA94C-EF4B-4E03-B126-462B91B1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FEAE2B-8455-4EA4-9C98-DEE2268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9419-99D3-48E0-90E2-E723B725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8D94B2-AF35-48B6-A1B3-E6C1F7EA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EC7E67-DBFE-408D-8D1C-F9DC43A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E004E3-15F6-428B-958C-4414C11D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DFC80-9585-4B33-AB5F-7D516EF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14759-AAB5-4C38-8FF4-AF285BC2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A3DFF-D3AD-4CCC-9C3B-B3752C17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A0B26D-1D4C-4D14-88F1-861F54F2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834EE-5EB8-4214-863A-19153AE5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A271F-2414-46AD-A82F-F7E00ECC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32FA7-4B66-4764-B263-32CF2F5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B59C-BC7C-41F1-B4CA-CC84568661A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BAB-C0E2-4F93-933B-7BFCB202AD6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4D3F-3790-45EC-8903-741754F87FC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7479-224A-4B13-9323-D61C10DD61E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3016-59CA-4AE5-AD51-4D94BF37E8A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A754-F6C8-48CF-B3A8-9AF8DF7687C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023B-09D4-44E2-8379-F485677917E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E79D-DBE2-42CB-BF51-AC79454DC70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BA5E-A759-4005-8D5C-6FF2DA19CF7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9E71-9284-4A20-83F6-BCBBCA87330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07B4-2F15-4645-95C8-83897303942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6817-3C16-4B29-8FD5-C4F11B4493E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7D8-B289-4C0D-B8C8-CF16F93905B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388-124E-4037-B511-121E647EF75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113-3991-4961-97CD-177138F4DD9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4A64-D423-4BE2-8DBC-2DBD4F4B8A9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3989-5B3B-4A3D-9B87-0C10EE7DD25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96C-9B23-479E-B6C4-6F89C90C06D0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8D0C-FF13-4512-AFBD-5170512E5FA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CFAC-20BA-43E0-9067-02B4A87F7FC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627-9086-49D3-B235-45743E1A075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120-7A25-446F-B504-C51D9835589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F6A8-DC3F-41D2-8A19-6968937B69E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B7AA-6E8A-4E64-9447-0DE3701B74E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2B59-C352-4543-89B5-1B3787B8B58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35D-EB85-4002-B30A-A43530DA4D86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hapter Si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commerce and online auction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isk associated with e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curity issues with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Private porta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Buy services from existing porta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lusion from existing marke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ss of margins due to product and price transpar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nnel conflicts as online marketplaces overlap with and edge out traditional channels and distribu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mmerce readiness for target custo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mmerce readiness of potential marke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gins versus Volu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share versus market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F903-9E8C-441E-ACE1-356D1FA491D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Risk associated with ecommerce</a:t>
            </a:r>
            <a:r>
              <a:rPr b="1" lang="en-IN" sz="28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sk of arbitra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quid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define Value Bounda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peed of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duce purch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sitio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75F-D725-4984-91D0-29AD66F0D3A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and online auctions can be successful if following points are considered while designing business mode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eadiness of the product and mark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isk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80F0-D1DC-4686-964D-249073CBBA9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online a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ortance of online auction in the indust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le of ecommerce in online a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A6ED-A6BE-460D-9C84-ABF280077EC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ing options for new age fir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line auctions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ying and selling articles through social network sites,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-to-business exchang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netration of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ay-to-day customer interactions through online marketpla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alance of power from the seller to the buy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in pr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in volu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ch more mark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tch the way customers want to bu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300"/>
            </a:b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D1BC-D2FB-4B8D-B516-D4D91E79F72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s knowledge repositor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olum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Knowledge about new and value added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786D-8F4A-4616-8067-39ABA1F4C15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y online marke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act of online mark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ift in consumer prefere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pping and buying simpl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-effecti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aring different features of available products, pricing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yers and sellers into one place and help exchange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chnology supports more flexible and efficient pri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to set the limits for products and to define price for buy and sell activ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late into fairer price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ed transaction cost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rtened cycle times,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ed information flo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F40C-6A72-4726-88E9-E5C01D874FA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Types of online marketing and ecommerc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strategic managemen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modities secondary mark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ional spe­cialt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ve different types of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ying Services: support during the awareness and demand generation phases of the selling proces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uctions: aggregating demand and matching buyers and sell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2B Exchanges: commerce with vertical market and product-specific expert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dustry-sponsored Exchanges: approved vendors can work with the purchase department of the buye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Exchanges: "private" or "captive" online marketpla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FF7A-7C41-4C66-A8AA-49F10F01093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commerce Servi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ervice consists of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spective buy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cting a sell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and gene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les and fulfill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rvice and sup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ecommerce service to be success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and features of products should be transpar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ppliers who can supp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a wide range of value-added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78BF-8180-4A4D-A003-2CFAFB3852D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commerce service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To create USP in ecommerce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comparative online information for ecommerce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Internet auctions facil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ive Business to Business (B2B)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dustry specific ecommerce sites (in some ca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ured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exchan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A3EB-E78A-4996-82C6-4AFF3EC97EB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Ecommerce and customer satisfact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stomer satisfaction comes because of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ifts information power from seller to buy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provided in sharing inform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courage repeat purchase from returning custo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rease the number of competitor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se price differenc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ow buyers to pool their buying power against sel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1A5A-E102-49E1-9030-B3C96718071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03T11:09:25Z</dcterms:modified>
  <cp:revision>394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